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2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29.wmf" ContentType="image/x-wmf"/>
  <Override PartName="/ppt/media/image7.wmf" ContentType="image/x-wmf"/>
  <Override PartName="/ppt/media/image11.jpeg" ContentType="image/jpeg"/>
  <Override PartName="/ppt/media/cashreg.wav" ContentType="audio/x-wav"/>
  <Override PartName="/ppt/media/image8.wmf" ContentType="image/x-wmf"/>
  <Override PartName="/ppt/media/image12.jpeg" ContentType="image/jpeg"/>
  <Override PartName="/ppt/media/image10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3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BAE-691A-4FB2-9053-A8187528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52A-1944-4A15-8C3E-8CFC331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2E4C3-4CAE-44F9-B1CF-103511B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B4091-C305-43C9-B2BC-4B8336A0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E3B6F-5F83-44CB-989B-4D4F7C69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68B2-3DC6-46A3-98B7-BD0DD74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3F0BD-BC31-40A1-A4C2-3AC7A83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4BAFE-D481-4516-B337-CF37D17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A1389-C46E-4D96-9B22-FB0A2A9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D1B91-F939-4D3F-90E8-21540609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E7E8B-3681-4397-BE46-14F89443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DF80A-1736-4C17-AAAF-41B599CD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96E-D22B-4B96-A9CD-5B59EF38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7A8CA-D90E-4C64-AC85-5D703FA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DB0FE-1A8C-49D7-9587-C84BCE6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60BA-8AD0-4D4B-8096-4E58C373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2A404-99D3-48B1-A992-C6FFC5A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A488F-3E13-40F0-9DC5-C9FA3E52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8A56F-CCF0-4D1C-9C00-BC561D2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C8B82-552B-43F7-A47C-C68D6EC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C97C3-56FC-441B-94BE-44FEDD3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8A00-2905-47C1-A4F4-61AC9326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318C2-3218-4C64-8D48-840C0274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87D-9FF4-4F94-B78B-58EC4E2C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99E89-A1B1-4B00-A82D-5EFDC8D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078FB-4B1C-443A-835B-A974E9BF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FFD19-CE80-4502-ADDE-40A4A5B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008BB-56A8-45FF-812F-6D40B0E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0F7AA-2C50-40EA-BD33-38F016F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E32F0-76D8-40ED-884B-CC4D7B0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6A688-8031-4950-8C25-39CF80C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B9FB-D250-4671-A2C4-CA5E168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59233-57ED-4077-81BE-59C72C5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AF48F-294D-456E-83AF-9020E2D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ED83-CC3B-45A7-BECB-BCCE6181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C09C-885F-420E-8D90-B9A5510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EAD3E-154D-4562-816D-C1D7B49D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4033-221E-42E2-B4C1-05908A94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A78BB-721E-4333-962E-5CC99DBE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E071-B902-4599-B174-D81A56BC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45C18-C2F5-46F9-A501-5A42BA9E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BDF2F-FA0B-4CA3-95EC-618FA5FB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11E4-1CAD-4E53-AAC2-695F08E7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39826-B669-4F64-81C0-23B35869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C1766-13F6-4B51-9360-2A7882A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E365-94FB-458F-9460-7D80ACF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6ED29-4355-420D-986F-E139CEF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D005F-D7CA-433B-BF76-F9FAC56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6908C-638A-4E3D-B819-107C41B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16C82-6AB2-4956-952A-4FFBAD82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45B30-3EC1-477B-B49E-233B8BCE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8B8-2A7F-497E-9707-1086B73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7D00-F7EE-487E-BA97-C1EE1F8B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556-FFE8-4DD9-830C-BE0CAE3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141D-258A-4FBF-901A-7D6ED1E4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283-E61F-4DB2-BBFB-36D973E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6AE-6B7B-4CF1-B21A-E7ABAB5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374-2043-431C-A5F2-00C840B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B42F-2A59-4E27-A2E8-A2853FA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7E7A-52E9-4B99-B763-F068AB09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A8E-7B52-491A-B4C3-1D853AB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AE46-6BDF-4D52-A3A9-15D1AC3F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F809-1458-4EB0-A8B8-8C8E0687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0FA4-1036-4F5B-A270-AF05207E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A494-792E-4755-B2D6-7A568446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780D-CBA8-45AF-86FE-0E5EE5F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AC5E-449F-464E-9A8B-0F6E667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CCF-003B-4B80-B28F-5A765A9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FE5C-0919-4CFB-AA90-480F3F8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603B-3FFE-46AC-BA52-6D9ABA7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4002-A3CE-46C3-BE65-2834EA4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2E02-EB3C-4673-99C9-FB206C2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A9CC-45F8-45C3-8735-D543FF7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6146-D951-4E1C-BA8C-BB9C038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C5F9-E0B6-42F5-B039-BCA4FA77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A13C-2567-402E-AAA3-A69C3EAC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7155-65B1-433C-9F46-FE2B1152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C42B-AB5A-42F8-BAB7-100C568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935-7832-4257-A0B9-697D759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B97E-3EA6-4983-B9BD-DA5EC7A9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C411-6841-4103-BA5F-4D1EEA9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B70F-CFBB-4014-98AF-F561336F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9A6B-4F50-4A38-8D4F-DD2D2A8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DC58-AABD-43B3-A4CE-828DEA2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11F3-116A-4451-A432-6E7B50A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105F-B644-4DC0-8A5F-6B287746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C5F3-C591-49DC-BF86-EB3055F5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7C99-64BE-4C4C-8919-451F23B2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FC88-3F87-496A-BA4D-79F007F3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4DC-0F52-4495-8EEF-A112091B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F081-52B4-4D9A-AEA1-CEEDA70E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956F-2C60-449F-BB80-6E9A26D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DF89-B385-429A-8431-49E7D528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3764-8A9A-42BC-8A92-FC2110E5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1CC7-620B-46E5-AB51-1D3332C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CB58B-5D98-47CE-B8CE-CC086D7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C609-58AE-4064-B701-6FF0544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9086-C2D4-4A96-A6AF-C05062D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4BFA-6276-4487-B973-5F020D1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2F45-4AFC-40C9-A1FE-A49F8E21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3EC-D8AF-4619-B3E2-9C626F7F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317C-04D6-4495-8916-4F4622A6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2E52-9AA2-4169-A690-9213FF7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CBB5-C5CE-4249-87FB-C6186ED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2707-4ED2-4503-9BC6-BDC3F81B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35DF-500A-405C-B828-4B82F1C8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C981-48AC-4F3C-B4FB-01408EE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2054A-F6AF-4F7A-A6AB-D007754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EBCC8-2A4D-4472-806C-BF4039B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5C46-3D5A-4F42-8220-E743A61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B2FF-9F66-41BC-86B6-EC54D77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778-4C11-4823-9480-868A9DD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F7F6-051A-47FF-A732-72E948C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6E00-A0CB-4583-A410-AE45FE51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F6A3-FB81-4249-BC22-2FCA2652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BE2D-2FAA-450F-82E4-8E04716B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4744-9D73-4C8A-B718-D8DCA2F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3207-166F-4D64-BFAE-1A85557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E8819-AD70-41F4-B37B-AA9A899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CCF1-A668-4BEC-995A-B7DE0E2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0227-385A-4C60-A55B-0714DE2D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DFDF-BC21-4479-A42F-E66D9A8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F87-9681-4034-8BC9-6057ABF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B6BC2-BAAA-4FE7-B1C0-E1A7416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4FC6-FA5C-4DEC-8AE0-DDB0B07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2D92-A121-4AA2-BA36-7DE922BA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7E54-E9BA-442F-9AB9-7C11BFAB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4476-39D8-45CF-BBF5-90DB66A0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46F4-29DE-467E-86E0-8F516DB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A55D-DC52-45EA-9007-04DECF54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32CD-29D3-4E91-8F69-2F2E36B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6431-371A-4395-A0F4-CE1A192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52AFE-E3CA-49D5-9B63-5AAE46F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031-F5E1-4153-B72A-25CF6A7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31BC-CE32-4C5D-8A24-A1ECC6F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21247-1B12-4655-967D-2816965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45C27-26E4-4396-A7B5-949DF1C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BF7A-94AB-44DB-8D38-8E1C333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C7E32-DD40-4F4F-8AF7-3769694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E2757-466A-4B39-AE36-E534219B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3CF3-5B75-4550-AF2F-1D1E2665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6FA6A-D264-4C2E-BE66-632CE9C1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485AD-8F12-4A94-95CC-76422543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A96D7-147E-4F41-90F7-427DA156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B38-E514-4B4D-84DA-FFA2DC7AD8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1FC7-A6AD-4944-B4E9-40FF2DB622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9908-DF4E-4ED7-8B78-369AD50086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58E-551B-4D44-B300-B6885DD101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4B6B-1F27-448C-A17A-EBCA91DEFD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E20-C1FB-47BD-8A31-459A03DF5B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CAFC-BAA9-47ED-B4CC-349D758F53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F7E-97BA-47A4-858E-D09D1D21D2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035-E16B-4120-B81F-AF7B759C07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E1CD-6AB6-4247-B830-066AE553D2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A48-626E-4F90-B211-C94F1A603C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016-C558-4796-8D47-E9F3B1BAA4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991440" y="1372320"/>
            <a:ext cx="7084800" cy="184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sto MT"/>
              </a:rPr>
              <a:t>How well do you know Mrs. Studer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radley Hand ITC"/>
              </a:rPr>
              <a:t>A little trivia about your math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7" name="Picture 4" descr="j0217698"/>
          <p:cNvPicPr/>
          <p:nvPr/>
        </p:nvPicPr>
        <p:blipFill>
          <a:blip r:embed="rId1"/>
          <a:stretch/>
        </p:blipFill>
        <p:spPr>
          <a:xfrm>
            <a:off x="3657600" y="49528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y favorite snac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d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el food c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Picture 5" descr="MC900199113[1]"/>
          <p:cNvPicPr/>
          <p:nvPr/>
        </p:nvPicPr>
        <p:blipFill>
          <a:blip r:embed="rId1"/>
          <a:stretch/>
        </p:blipFill>
        <p:spPr>
          <a:xfrm>
            <a:off x="5867280" y="4167360"/>
            <a:ext cx="2346480" cy="2108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All of the abo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Yummmmmm!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Also yogurt, nuts, fruit, pretzels, and much more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1" name="Picture 12" descr="MP900444229[1]"/>
          <p:cNvPicPr/>
          <p:nvPr/>
        </p:nvPicPr>
        <p:blipFill>
          <a:blip r:embed="rId1"/>
          <a:stretch/>
        </p:blipFill>
        <p:spPr>
          <a:xfrm>
            <a:off x="3200400" y="4114800"/>
            <a:ext cx="3132000" cy="208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ue or False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 used to teach at the YMC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667240" cy="2027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Tru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was an instructor, program director, and branch manager at the Towpath Trail YMCA in Navarre, Ohio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7" name="Picture 4" descr="MC900286650[1]"/>
          <p:cNvPicPr/>
          <p:nvPr/>
        </p:nvPicPr>
        <p:blipFill>
          <a:blip r:embed="rId1"/>
          <a:stretch/>
        </p:blipFill>
        <p:spPr>
          <a:xfrm>
            <a:off x="3886200" y="4648320"/>
            <a:ext cx="1424160" cy="1861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my favorite color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0" name="Picture 4" descr="MC900232724[1]"/>
          <p:cNvPicPr/>
          <p:nvPr/>
        </p:nvPicPr>
        <p:blipFill>
          <a:blip r:embed="rId1"/>
          <a:stretch/>
        </p:blipFill>
        <p:spPr>
          <a:xfrm>
            <a:off x="5029200" y="3200400"/>
            <a:ext cx="2357280" cy="208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.  Gree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Calisto MT"/>
              </a:rPr>
              <a:t>I love the color green, and the patterns of argyle, plaid, and paisley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3" name="Picture 4" descr="MC900083417[1]"/>
          <p:cNvPicPr/>
          <p:nvPr/>
        </p:nvPicPr>
        <p:blipFill>
          <a:blip r:embed="rId1"/>
          <a:stretch/>
        </p:blipFill>
        <p:spPr>
          <a:xfrm>
            <a:off x="1676520" y="3581280"/>
            <a:ext cx="1846080" cy="2803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MC900354260[1]"/>
          <p:cNvPicPr/>
          <p:nvPr/>
        </p:nvPicPr>
        <p:blipFill>
          <a:blip r:embed="rId2"/>
          <a:stretch/>
        </p:blipFill>
        <p:spPr>
          <a:xfrm rot="16200000">
            <a:off x="3962160" y="3973320"/>
            <a:ext cx="2558880" cy="2019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C:\Users\Studer lap\AppData\Local\Microsoft\Windows\Temporary Internet Files\Content.IE5\JM39GIJU\MC900210548[1].wmf"/>
          <p:cNvPicPr/>
          <p:nvPr/>
        </p:nvPicPr>
        <p:blipFill>
          <a:blip r:embed="rId3"/>
          <a:stretch/>
        </p:blipFill>
        <p:spPr>
          <a:xfrm rot="5400000">
            <a:off x="5577480" y="4568040"/>
            <a:ext cx="355464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4" name="cashreg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ch sport is my favorite to pla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Kick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Socc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Volley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Go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8" name="Picture 4" descr="j0285698"/>
          <p:cNvPicPr/>
          <p:nvPr/>
        </p:nvPicPr>
        <p:blipFill>
          <a:blip r:embed="rId1"/>
          <a:stretch/>
        </p:blipFill>
        <p:spPr>
          <a:xfrm>
            <a:off x="4286160" y="3124080"/>
            <a:ext cx="1138320" cy="1216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j0183168"/>
          <p:cNvPicPr/>
          <p:nvPr/>
        </p:nvPicPr>
        <p:blipFill>
          <a:blip r:embed="rId2"/>
          <a:stretch/>
        </p:blipFill>
        <p:spPr>
          <a:xfrm>
            <a:off x="6858000" y="2438280"/>
            <a:ext cx="1139760" cy="998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j0301480"/>
          <p:cNvPicPr/>
          <p:nvPr/>
        </p:nvPicPr>
        <p:blipFill>
          <a:blip r:embed="rId3"/>
          <a:stretch/>
        </p:blipFill>
        <p:spPr>
          <a:xfrm>
            <a:off x="6553080" y="4494240"/>
            <a:ext cx="1494000" cy="1111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j0299763"/>
          <p:cNvPicPr/>
          <p:nvPr/>
        </p:nvPicPr>
        <p:blipFill>
          <a:blip r:embed="rId4"/>
          <a:stretch/>
        </p:blipFill>
        <p:spPr>
          <a:xfrm>
            <a:off x="4495680" y="5334120"/>
            <a:ext cx="1141560" cy="939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5" name="cashreg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.  Volleyb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I played volleyball all through school and college, and then coached 7</a:t>
            </a:r>
            <a:r>
              <a:rPr b="0" lang="en-US" sz="2800" spc="-1" strike="noStrike" baseline="30000">
                <a:solidFill>
                  <a:srgbClr val="003366"/>
                </a:solidFill>
                <a:latin typeface="Californian FB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 grade volleyball for four years.  </a:t>
            </a:r>
            <a:r>
              <a:rPr b="0" lang="en-US" sz="2000" spc="-1" strike="noStrike">
                <a:solidFill>
                  <a:srgbClr val="003366"/>
                </a:solidFill>
                <a:latin typeface="Californian FB"/>
              </a:rPr>
              <a:t>(Until I had kids)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4" name="Picture 5" descr="MC900436021[1]"/>
          <p:cNvPicPr/>
          <p:nvPr/>
        </p:nvPicPr>
        <p:blipFill>
          <a:blip r:embed="rId1"/>
          <a:stretch/>
        </p:blipFill>
        <p:spPr>
          <a:xfrm>
            <a:off x="3962520" y="4267080"/>
            <a:ext cx="1573200" cy="216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2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Lucida Fax"/>
              </a:rPr>
              <a:t>Which celebrity chef did I meet in pers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cco Dispir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ula D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y Fi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ndra L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il Laga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hel 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7" name="Picture 3" descr="C:\Users\h\AppData\Local\Microsoft\Windows\Temporary Internet Files\Content.IE5\N06A6TB1\MC900013023[1].wmf"/>
          <p:cNvPicPr/>
          <p:nvPr/>
        </p:nvPicPr>
        <p:blipFill>
          <a:blip r:embed="rId1"/>
          <a:stretch/>
        </p:blipFill>
        <p:spPr>
          <a:xfrm>
            <a:off x="5105520" y="3124080"/>
            <a:ext cx="1996920" cy="148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0" dur="2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4" dur="2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8" dur="2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42" dur="2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46" dur="2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50" dur="2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Sandra L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 CENA"/>
              </a:rPr>
              <a:t>I met her last year in Charlotte at the Women’s Expo.  She signed her autobiography for me and had her picture taken with me.  I was crazy happ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I am marri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0" name="Picture 5" descr="MC900347201[1]"/>
          <p:cNvPicPr/>
          <p:nvPr/>
        </p:nvPicPr>
        <p:blipFill>
          <a:blip r:embed="rId1"/>
          <a:stretch/>
        </p:blipFill>
        <p:spPr>
          <a:xfrm>
            <a:off x="3657600" y="4267080"/>
            <a:ext cx="1822320" cy="1803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y best attribu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22860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ings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expec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many to li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  Too many to list!!!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Hahahahahahaaaaa)!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try my be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5" name="Picture 2" descr="C:\Users\Studer lap\AppData\Local\Microsoft\Windows\Temporary Internet Files\Content.IE5\L28S21DP\MC900434421[1]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60520" cy="131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Book Antiqua"/>
              </a:rPr>
              <a:t>What is my biggest pet pee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838080" y="23619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Chewing on 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Wh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Interrup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Not saying, “Excuse me” (or all other man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Packing up before dismis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Ly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Not paying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Too many to list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4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54" dur="2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58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62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66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0" dur="2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4" dur="20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8" dur="20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82" dur="20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H.  Too many to list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Euphemia"/>
              </a:rPr>
              <a:t>Do your be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0" name="Picture 2" descr="C:\Users\Studer lap\AppData\Local\Microsoft\Windows\Temporary Internet Files\Content.IE5\L28S21DP\MC900131697[1].wmf"/>
          <p:cNvPicPr/>
          <p:nvPr/>
        </p:nvPicPr>
        <p:blipFill>
          <a:blip r:embed="rId1"/>
          <a:stretch/>
        </p:blipFill>
        <p:spPr>
          <a:xfrm>
            <a:off x="3886200" y="426708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Let’s have a great ye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3" name="Picture 4" descr="MC900438253[1]"/>
          <p:cNvPicPr/>
          <p:nvPr/>
        </p:nvPicPr>
        <p:blipFill>
          <a:blip r:embed="rId1"/>
          <a:stretch/>
        </p:blipFill>
        <p:spPr>
          <a:xfrm>
            <a:off x="3886200" y="457200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0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married my husband,Todd, on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December 12, 1992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How many years is that????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two childre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5" name="Picture 4" descr="MC900445300[1]"/>
          <p:cNvPicPr/>
          <p:nvPr/>
        </p:nvPicPr>
        <p:blipFill>
          <a:blip r:embed="rId1"/>
          <a:stretch/>
        </p:blipFill>
        <p:spPr>
          <a:xfrm>
            <a:off x="2590920" y="4572000"/>
            <a:ext cx="1733400" cy="1743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MC900445306[1]"/>
          <p:cNvPicPr/>
          <p:nvPr/>
        </p:nvPicPr>
        <p:blipFill>
          <a:blip r:embed="rId2"/>
          <a:stretch/>
        </p:blipFill>
        <p:spPr>
          <a:xfrm>
            <a:off x="4724280" y="4572000"/>
            <a:ext cx="1801800" cy="1765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L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three boys:                  Ryan, 1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eed, 10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almost 1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oman, 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3124080" y="4890960"/>
            <a:ext cx="2934000" cy="1955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ch pet do I ha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Do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C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abbi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Fis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Gerbi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All of the abo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2" name="Picture 4" descr="j0304933"/>
          <p:cNvPicPr/>
          <p:nvPr/>
        </p:nvPicPr>
        <p:blipFill>
          <a:blip r:embed="rId1"/>
          <a:stretch/>
        </p:blipFill>
        <p:spPr>
          <a:xfrm>
            <a:off x="4114800" y="3886200"/>
            <a:ext cx="833400" cy="763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MC900016533[1]"/>
          <p:cNvPicPr/>
          <p:nvPr/>
        </p:nvPicPr>
        <p:blipFill>
          <a:blip r:embed="rId2"/>
          <a:stretch/>
        </p:blipFill>
        <p:spPr>
          <a:xfrm>
            <a:off x="6019920" y="4343400"/>
            <a:ext cx="1027080" cy="716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MC900020443[1]"/>
          <p:cNvPicPr/>
          <p:nvPr/>
        </p:nvPicPr>
        <p:blipFill>
          <a:blip r:embed="rId3"/>
          <a:stretch/>
        </p:blipFill>
        <p:spPr>
          <a:xfrm>
            <a:off x="6553080" y="2514600"/>
            <a:ext cx="1067040" cy="985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MC900052778[1]"/>
          <p:cNvPicPr/>
          <p:nvPr/>
        </p:nvPicPr>
        <p:blipFill>
          <a:blip r:embed="rId4"/>
          <a:stretch/>
        </p:blipFill>
        <p:spPr>
          <a:xfrm>
            <a:off x="7620120" y="5029200"/>
            <a:ext cx="930240" cy="941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MC900438167[1]"/>
          <p:cNvPicPr/>
          <p:nvPr/>
        </p:nvPicPr>
        <p:blipFill>
          <a:blip r:embed="rId5"/>
          <a:stretch/>
        </p:blipFill>
        <p:spPr>
          <a:xfrm>
            <a:off x="4648320" y="2743200"/>
            <a:ext cx="680760" cy="86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. Do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one dog, Buster.  He is a   10-year-old black lab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9" name="Picture 6" descr="funny Buster"/>
          <p:cNvPicPr/>
          <p:nvPr/>
        </p:nvPicPr>
        <p:blipFill>
          <a:blip r:embed="rId1"/>
          <a:stretch/>
        </p:blipFill>
        <p:spPr>
          <a:xfrm>
            <a:off x="2895480" y="4038480"/>
            <a:ext cx="3727440" cy="221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which state was I bor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w York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hi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uth Caroli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lask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2" name="Picture 5" descr="MP900382902[1]"/>
          <p:cNvPicPr/>
          <p:nvPr/>
        </p:nvPicPr>
        <p:blipFill>
          <a:blip r:embed="rId1"/>
          <a:stretch/>
        </p:blipFill>
        <p:spPr>
          <a:xfrm>
            <a:off x="4952880" y="37879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.  Oh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y family and I moved here from Ohio in the summer of 2007.  This is my fifth year at MC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5" name="Picture 4" descr="MC900101192[1]"/>
          <p:cNvPicPr/>
          <p:nvPr/>
        </p:nvPicPr>
        <p:blipFill>
          <a:blip r:embed="rId1"/>
          <a:stretch/>
        </p:blipFill>
        <p:spPr>
          <a:xfrm>
            <a:off x="4572000" y="3352680"/>
            <a:ext cx="3129120" cy="330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9:07:24Z</dcterms:created>
  <dc:creator> </dc:creator>
  <dc:description/>
  <dc:language>en-US</dc:language>
  <cp:lastModifiedBy>h</cp:lastModifiedBy>
  <dcterms:modified xsi:type="dcterms:W3CDTF">2011-08-09T01:00:06Z</dcterms:modified>
  <cp:revision>24</cp:revision>
  <dc:subject/>
  <dc:title>How well do you know Mrs. Studer?</dc:title>
</cp:coreProperties>
</file>